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2FE-5E68-46F6-B417-8B1D4B46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29560"/>
            <a:ext cx="90615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4C4-D563-46E7-918F-060AE752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42B-A77C-4E07-8EE1-5883DAB6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79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295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1295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129560"/>
            <a:ext cx="29174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D04-680B-4B88-9CE0-F002E048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A4B-D41A-4803-AD9B-64F92CFA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90E-40DD-49CD-817D-E2B022D3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72E-6EE5-4273-A133-4E3A05D6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1AC-1E2A-4896-A13C-754633AC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B97-93C3-499E-921C-13AC39D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079-0C9B-4F60-B293-8477316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1295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787-3C02-41BD-A5DD-5AF8B2C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7960"/>
            <a:ext cx="44218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29560"/>
            <a:ext cx="90615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623-C529-4AB0-B7C0-C1892361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1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080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67080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67080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D89D9-A711-4A15-BC0D-DDCD852507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82680"/>
            <a:ext cx="907092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imited W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 war fought to achieve a limited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ruman favored limite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Fear of nuclear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haped American foreign policy throughout Cold       W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0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F. Changes in Policy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North Korean troops pushed back across 38</a:t>
            </a:r>
            <a:r>
              <a:rPr b="0" lang="en-US" sz="32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eace negotiations in 1951, armistice signed in July of 19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mportant turning po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S contained Communism w/ economic and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US starts major military buil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0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old War now in Asia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768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1954: SEATO 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outheast Asia Treat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merican is now sending aid to French troops in      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30480" y="3846600"/>
            <a:ext cx="8001000" cy="37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0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esson Objec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tudents will be able to explain why the US got involved in the Korean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tudents will be able to explain why Japan became America's 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students will be able to explain why MacArthur was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A. The Chinese Revolu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munist vs. Nationalist gover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ao Zedong, Commu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hiang Kai-sheck, Natio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Communists take over and establish the People's   Republic of China in 19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Fall to Communism shocks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oviets and Communist China sign tre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1444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 Zedong                                       Chiang Kai-s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040" y="2332080"/>
            <a:ext cx="3508560" cy="487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83360" y="2484360"/>
            <a:ext cx="35431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B. New Policies in Japa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. MacArthur in Japan to establish dem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Japan now becomes the US ally in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Rapid recovery in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Japan was key to defeating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. The Korean War Begin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orea divided at 38</a:t>
            </a:r>
            <a:r>
              <a:rPr b="0" lang="en-US" sz="32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llel line after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oviets in the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US in the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orth Korean troops invade the south on June 25th, 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US air and naval forces called to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N troops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MacArthur orders invasion behind enemy l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6944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01880" y="326880"/>
            <a:ext cx="8001000" cy="692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. China Enter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**MacArthur wants to expand war against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Blockade of China's 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Use the Nationalist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**Use atomic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82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. Truman Fires MacArthu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ruman denies request, no China or atomic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acArthur criticizes Truman; all resources should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ril 1951, MacArthur fired by Truman for insub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Public supports MacArth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ongress and military support Tr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0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2:21:36Z</dcterms:created>
  <dc:creator>Courtney Huro</dc:creator>
  <dc:description>Presentation Layout Template</dc:description>
  <dc:language>en-US</dc:language>
  <cp:lastModifiedBy>School District U46</cp:lastModifiedBy>
  <dcterms:modified xsi:type="dcterms:W3CDTF">2011-02-23T17:21:14Z</dcterms:modified>
  <cp:revision>5</cp:revision>
  <dc:subject/>
  <dc:title>Blue and Red Gradient</dc:title>
</cp:coreProperties>
</file>